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68A-5FBD-4836-894C-255E9CE9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7E6-165E-4884-A6E2-4F9AE1AA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F59-E3CF-4F56-8A82-30792799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CE9-075F-49CB-97C1-05700FDB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B59-044E-40FD-B0A7-88BB322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9B6-CAD7-4F7F-9D90-5297AE68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51A-6B7D-40DC-B03A-706DD12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863-EDCE-42A0-AED1-4956E7D4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814-0134-4819-BC04-4A70280F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7C3-7B8E-4655-AA65-77D973F9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E0F-3618-41C9-8D2D-6A26D74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C24-C5DF-4410-AFED-1C63AD96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014EDD96-DA6D-4C9C-B25D-AEA7DF7B5B2E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511488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January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81120"/>
            <a:ext cx="695340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ome basics about ‘MEP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4BC-6481-4650-AC79-FE45509271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059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 KIC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BE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AFT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L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is defin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irement Release - Design freez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mplementation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Synchronization Integration Point (S 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Integration Point (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1 Module Operable in Basic Func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Functional Sample (B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Prototype Device B1+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ales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 for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art - Release for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pproval Sta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K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turity of Key Applicatio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livery Start - limited release for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3/S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nlimited Release for Market / Development Project finish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 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ART RAMP-DOW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MP DOWN STRATEGY FIX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F/V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OP, SALES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ERVICE STOP, PRODUCT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A47-B244-47B0-8A2A-F22278D1FC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Checkpoints statis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600" y="1690560"/>
            <a:ext cx="8923320" cy="21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3E0-4F20-4FD4-AFAF-E37203BD4DA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History IPO/ME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4680" y="764640"/>
            <a:ext cx="8037720" cy="25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d to late 90s: IPO (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tegriert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zess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dnu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scrib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rganizational framework / Team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cess / task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s accompanying 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milestone checklist: ME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(Meilensteinergebnisse in der Produktentwicklung / Milestone Execution Plan)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 purpose: Synchronization between involved func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920" y="3328920"/>
          <a:ext cx="691992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3328920"/>
                    <a:ext cx="691992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CA5-612C-4FF6-97BD-16AFCC0B096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oda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040" y="947520"/>
            <a:ext cx="8477280" cy="53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PO almost unknown. MEP is seen as ‘The Process’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n parallel: ‘PLM-picture’, organization and role description on the intran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s were added: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k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PS, DS, AS, MKA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rom MEP 6-&gt;MEP 7: increased number of checkpoi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ome complaints: too complex / too much / too vague / too imprecise / un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Ownership of MEP changed frequently. Today: IT P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hecklist responsible assigned per func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teps: R&amp;D-driven (+TPM) (E03/2006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of product classes I-IV. R&amp;D not driving entire MEP adap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daptation to new Org (espc. TPM -&gt; roles TPM / TPM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BCB-8F26-4089-A917-F9517368DD8C}" type="slidenum">
              <a:t>3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Pros and cons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11160"/>
            <a:ext cx="38815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Guideline through proje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rehensive documentation (also for newcomer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greement between all project play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need for re-inventing the whe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flects ‘best practices’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pen for chang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62400" y="968400"/>
            <a:ext cx="46418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is 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ailoring-option almost unknown/not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o complex, big, .., unclear compl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ording (e.g. requ./feature, fixed/final/rele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ix of generic/quantitativ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Word document -&gt; better Excel or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igning of milest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cedure: Everybody wants to sign….. No clear and simple responsib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Paper/Fax, manu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33960" y="1011240"/>
            <a:ext cx="0" cy="479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F6B-42E7-4868-A02F-E52B57C7A6BD}" type="slidenum">
              <a:t>4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me fig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58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ast release V 7.01, 07/2005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(160 pages, herder: 8p, ‘process’, teams, responsibilities: 12p, checkpoints:113p, MS declarations 27p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0 disciplines/functions/teams (8 are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3 milestones, 19 immediately relevant for R&amp;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0-M3/S4 (16MS): ~1800 checkpoints for all discipli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check items M0-M3/S4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653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peak at M0, M1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W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(343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8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7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5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4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chanic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71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oftwar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3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 Test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5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ject Management (~TPM-R&amp;D)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1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121-A41A-4822-BF8C-B66EAA36481A}" type="slidenum">
              <a:t>5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ToDo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20116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class adaptation (running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lected ‘Cons’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daptation to agile develop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HE&lt;-&gt;PHA process synchron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4AC-E1A5-481D-BB42-065BB826445B}" type="slidenum">
              <a:t>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Questions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80028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9B6-F823-4E6D-8336-6070811CA4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6C6-D8A4-4811-A833-3B8910F72B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Functions/Disciplines/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oadmap Defini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nci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finition and Industrial Desig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pply Chain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Material Quality and Technical Capabi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ke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stomer C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curement Enginee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velop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echan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E5A-4327-455C-943B-DFE5531196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Uwe Schmitz</dc:creator>
  <dc:description/>
  <dc:language>en-US</dc:language>
  <cp:lastModifiedBy>SchmitzU</cp:lastModifiedBy>
  <dcterms:modified xsi:type="dcterms:W3CDTF">2006-01-30T08:34:47Z</dcterms:modified>
  <cp:revision>365</cp:revision>
  <dc:subject/>
  <dc:title>MEP intro</dc:title>
</cp:coreProperties>
</file>